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2EE-010D-44A1-B038-8C8219EE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86B-5684-48EF-B6A6-0EFFECA9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FB8-2966-48A9-9266-202317C4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7AB-2A88-4BE7-B52A-8F25C880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5FD1-C08E-4351-995B-74A009BD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F87E-081A-4DDF-BAF8-49E491FD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98DA-A18A-4F87-9B07-F32DF2E7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131F-1825-4F7C-9183-E2DA01BB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4A39-1067-4FD2-86F5-1D0A21B3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5B34-183D-4EAB-9A32-B0E9921F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F26D-2697-4C28-9E99-81CBA84D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C44-BF44-4FBC-8971-3A314B66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61C8-1FB8-48EE-82BB-F2244B16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CFC8-0619-4EF0-BFEA-F0D47D57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0543-A3AC-47F5-9423-9F384EC4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9008-4216-4957-A8FA-4B8168BC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9F34-FA79-4E90-97F2-0D4C3FE7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3B12F-528D-48F9-B5BD-C2F54E54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6A22C-E3CE-4D14-A6C2-A691497E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E6A89-53F0-4D70-AA89-694A883B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905BA-285C-41CD-B711-1AD582D8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A0493-6133-454A-83D1-590A905A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B32-0FFB-49A2-A784-D4884856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9846B-B2E6-4287-97B8-4F6152DF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AFDBE-4891-4E02-BD8E-0C3A15E0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D5551-7D99-409A-B1FE-4FA01B82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A2DD4-F385-4ACA-8682-B8686459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2BEBE-A209-4426-832B-C206CE62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F636F-7C9A-45C2-B65E-F5CEDBAE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B45BA-A4E5-4ED4-9EC6-7D5CF63F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80630-624C-4587-A514-CE852D65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E777D-BDA4-4411-9C8A-9B9151BB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740A5-263A-4C97-93D3-ECD6064B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142-C85D-4883-862F-4828BA5C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49153-69F4-410B-B5FC-DF9F8B5D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583CC-48E2-4E39-870B-9B695DCF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EB8E9-68BC-44E6-BD84-3ADD36F3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D868F-B8C3-47B8-AA9A-1D0F8442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E5402-493E-43F1-999E-A9703C9E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09373-16F9-4CE2-817F-F5744628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1766E-DF0F-40F1-931A-10657454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8951B-D4F7-463A-861D-313E7526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3DA70-330A-461B-8354-AB5687C7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77C1D-6F6D-4D91-9FDB-6D572E13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1B1-B542-4FAC-8D18-AAEE6539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35CE3-3783-4D63-BE3A-B76DBFE6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45677-75C3-4752-B230-09792264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90363-AB70-4882-A32C-B9BDB3CD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66B07-ED45-42A9-813B-F3D26339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F1E9A-8F7A-418A-A64B-C3AFF1CF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118F7-1C91-4951-A7CF-8242BCF0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38479-6E6D-4300-B7D8-4390BEE8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4C85D-335F-4260-B594-4551DCDC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CE65B-F1B0-4791-ABE9-57395011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C93F5-FD40-4F53-AC23-8D245D2F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FAF-9CAA-4921-B77B-85FC4E20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4C730-AA1B-4F78-8E51-267085F5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1E016-108E-425D-B02D-84A39CF5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34A2E-8038-423C-80BF-B457B20D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72255-689E-4892-B5D0-A43EA25D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7EB1D-8A21-4626-B027-B12E50B3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6177D-6378-4948-8B9E-0A22B644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84705-4360-4B29-B3B8-CD6CCC55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22748-A33B-4768-9F3C-283CD6A8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1E33A-EED0-4EB4-93F5-0F4B77FD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470D9-D327-4FD9-B2E5-1CD19EFC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AA9-717E-4FE9-A1FD-81A621E4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F2174-B497-4068-A1F3-6D6AFEB3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16669-B0F6-4ACD-9627-F38DBEE5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EE12F-E044-4E1E-9776-5E7D5C93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33E11-5C8E-497B-8C13-01411F8C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29749-8F03-4D98-A125-CC0C0D44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CF51C-62D9-45D1-B43D-58AD660E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66576-40E6-4805-8807-AC033A8F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D42FD-2F23-4A8C-9AEF-EA1212A3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AEFF7-D339-413D-91E2-A5FC5B00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17EA6-E5CB-4347-8AD1-B7480F61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B157-5166-4A23-AD80-017EA5D0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7EBC8-FDBB-46E5-B703-3F21F4D7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67278-F727-4603-9240-EA03B12B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C2CF7-1792-45AB-9027-8193604B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3CE49-15C6-4F7F-8DEE-E8A04DC3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2DAA5-4C1F-4C57-86B7-173B625D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205-D0AC-4B29-A05F-4CE9E948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8C55-4B2C-46ED-896E-58FC2B57F5D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59D7-AF4F-4F16-ADB6-EF89EEAB999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A919-94F3-4C1E-86D3-7A6B94AA0D2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BC19-6EE8-40EF-857E-2218E3BF6F0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E447-8644-430A-AB5B-0670DC45576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6C30-BD67-4FD8-8990-5794E561A7E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E608-8931-49E0-87D3-6531182796A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549360"/>
            <a:ext cx="740736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пасный мусор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Рисунок 3" descr="чел.png"/>
          <p:cNvPicPr/>
          <p:nvPr/>
        </p:nvPicPr>
        <p:blipFill>
          <a:blip r:embed="rId1"/>
          <a:stretch/>
        </p:blipFill>
        <p:spPr>
          <a:xfrm>
            <a:off x="1042920" y="1700280"/>
            <a:ext cx="78818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Рисунок 5" descr="планета.jpg"/>
          <p:cNvPicPr/>
          <p:nvPr/>
        </p:nvPicPr>
        <p:blipFill>
          <a:blip r:embed="rId1"/>
          <a:stretch/>
        </p:blipFill>
        <p:spPr>
          <a:xfrm>
            <a:off x="0" y="0"/>
            <a:ext cx="3643200" cy="32148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00080" y="3252960"/>
            <a:ext cx="8143920" cy="36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пример с </a:t>
            </a:r>
            <a:r>
              <a:rPr b="1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010 г.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в Санкт-Петербурге действует система регулярного сбора опасных отходов, образующихся в быту, с помощью мобильных пунктов приема – «Экомобилей». Мобильный пункт приема представляет собой автомобиль, оснащенный специальными контейнерами для сбора и транспортировки опасных отходо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8920" indent="-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Заголовок 1"/>
          <p:cNvSpPr/>
          <p:nvPr/>
        </p:nvSpPr>
        <p:spPr>
          <a:xfrm>
            <a:off x="2286000" y="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орошая новость!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5"/>
          <p:cNvSpPr/>
          <p:nvPr/>
        </p:nvSpPr>
        <p:spPr>
          <a:xfrm>
            <a:off x="3357720" y="1143000"/>
            <a:ext cx="578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явилась возможность утилизации отработанных батареек и аккумулятор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434600" y="1447560"/>
            <a:ext cx="74948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Экобокс»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Экомобиль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Рисунок 3" descr="экомобиль.jpg"/>
          <p:cNvPicPr/>
          <p:nvPr/>
        </p:nvPicPr>
        <p:blipFill>
          <a:blip r:embed="rId1"/>
          <a:stretch/>
        </p:blipFill>
        <p:spPr>
          <a:xfrm>
            <a:off x="4067280" y="2133720"/>
            <a:ext cx="4902120" cy="43196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4" descr="экомобокс.jpg"/>
          <p:cNvPicPr/>
          <p:nvPr/>
        </p:nvPicPr>
        <p:blipFill>
          <a:blip r:embed="rId2"/>
          <a:srcRect l="8176" t="3566" r="6124" b="6122"/>
          <a:stretch/>
        </p:blipFill>
        <p:spPr>
          <a:xfrm>
            <a:off x="539640" y="2060640"/>
            <a:ext cx="3311640" cy="4653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 можете сдать отработанные батарейки и аккумуляторы в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714240" y="214200"/>
            <a:ext cx="842976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лагодаря работе «Экомобилей» было собрано и утилизировано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1 348 шт.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тутьсодержащих ламп 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 745 шт.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медицинских термометров и прочих ртутных приборов. Собрано и селективно переработано окол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9-ти тонн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техники и бытовых приборов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 algn="ctr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На полигоны твердых бытовых отходов НЕ попал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 algn="ctr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,5 тонны лекарственных препаратов и химических отходов и 79 048 шт. батарее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орогие ребята! </a:t>
            </a:r>
            <a:br>
              <a:rPr sz="3900"/>
            </a:br>
            <a:r>
              <a:rPr b="0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авайте вместе сделаем наш город чище!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115640" y="1773000"/>
            <a:ext cx="7777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давайте использованные батарейки и аккумулято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кажите своим друзьям, соседям и родителям о вреде этого опасного мусор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817236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атарейка – это источник энергии для автономного питания разнообразных устройств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Рисунок 3" descr="вертолет.jpg"/>
          <p:cNvPicPr/>
          <p:nvPr/>
        </p:nvPicPr>
        <p:blipFill>
          <a:blip r:embed="rId1"/>
          <a:stretch/>
        </p:blipFill>
        <p:spPr>
          <a:xfrm rot="1024200">
            <a:off x="5602320" y="3315960"/>
            <a:ext cx="3147840" cy="31478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тел.jpg"/>
          <p:cNvPicPr/>
          <p:nvPr/>
        </p:nvPicPr>
        <p:blipFill>
          <a:blip r:embed="rId2"/>
          <a:stretch/>
        </p:blipFill>
        <p:spPr>
          <a:xfrm>
            <a:off x="755640" y="4581360"/>
            <a:ext cx="2941560" cy="212256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фотик.jpg"/>
          <p:cNvPicPr/>
          <p:nvPr/>
        </p:nvPicPr>
        <p:blipFill>
          <a:blip r:embed="rId3"/>
          <a:stretch/>
        </p:blipFill>
        <p:spPr>
          <a:xfrm rot="21048000">
            <a:off x="3002040" y="2252160"/>
            <a:ext cx="2571840" cy="218124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6" descr="часы.jpg"/>
          <p:cNvPicPr/>
          <p:nvPr/>
        </p:nvPicPr>
        <p:blipFill>
          <a:blip r:embed="rId4"/>
          <a:stretch/>
        </p:blipFill>
        <p:spPr>
          <a:xfrm>
            <a:off x="324000" y="765000"/>
            <a:ext cx="179532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к же устроена батарейка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Содержимое 3" descr="батарейка.jpg"/>
          <p:cNvPicPr/>
          <p:nvPr/>
        </p:nvPicPr>
        <p:blipFill>
          <a:blip r:embed="rId1"/>
          <a:stretch/>
        </p:blipFill>
        <p:spPr>
          <a:xfrm>
            <a:off x="1116000" y="907920"/>
            <a:ext cx="8028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4" descr="пал.jpg"/>
          <p:cNvPicPr/>
          <p:nvPr/>
        </p:nvPicPr>
        <p:blipFill>
          <a:blip r:embed="rId1"/>
          <a:stretch/>
        </p:blipFill>
        <p:spPr>
          <a:xfrm>
            <a:off x="3419640" y="4437000"/>
            <a:ext cx="4297320" cy="2421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кие бывают батарейки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42560" y="980640"/>
            <a:ext cx="8101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Самые маленькие «таблетки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«Пальчики», на них написано «АА» или «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size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АА» – это официальное их назва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Рисунок 3" descr="таблетки.jpg"/>
          <p:cNvPicPr/>
          <p:nvPr/>
        </p:nvPicPr>
        <p:blipFill>
          <a:blip r:embed="rId2"/>
          <a:stretch/>
        </p:blipFill>
        <p:spPr>
          <a:xfrm>
            <a:off x="1692360" y="1557360"/>
            <a:ext cx="32083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4" descr="бочки.jpg"/>
          <p:cNvPicPr/>
          <p:nvPr/>
        </p:nvPicPr>
        <p:blipFill>
          <a:blip r:embed="rId1"/>
          <a:stretch/>
        </p:blipFill>
        <p:spPr>
          <a:xfrm>
            <a:off x="5940360" y="2852640"/>
            <a:ext cx="3476520" cy="34768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971640" y="260280"/>
            <a:ext cx="6913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 «Мизинчики» - официальное название «ААА» или «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size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ААА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 «Бочки» и «бочонки»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D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» – они побольш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ли «С» – эти поменьш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Рисунок 3" descr="миз.jpg"/>
          <p:cNvPicPr/>
          <p:nvPr/>
        </p:nvPicPr>
        <p:blipFill>
          <a:blip r:embed="rId2"/>
          <a:stretch/>
        </p:blipFill>
        <p:spPr>
          <a:xfrm>
            <a:off x="1258920" y="1341360"/>
            <a:ext cx="3500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00080" y="-360"/>
            <a:ext cx="77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26080" algn="ctr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се эти батарейки по типу использования бывают 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дноразовые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которые нельзя перезаряжать на них написано «Алкалайновая батарейка» 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ккумуляторные батарейки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которые можно заряжать в специальном устройств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ругие батарейки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– специальные «свои» аккумуляторы в телефонах, видеокамерах, ноутбуках, некоторых фотоаппаратах – могут перезаряжаться в самом устройстве, когда оно подключается к электрической сети. Бывают батарейки типа «Крона» имеющие два круглых контакта и напряжение в 9 вольт  и друг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ем опасна батарейка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Содержимое 3" descr="внимание.jpg"/>
          <p:cNvPicPr/>
          <p:nvPr/>
        </p:nvPicPr>
        <p:blipFill>
          <a:blip r:embed="rId1"/>
          <a:stretch/>
        </p:blipFill>
        <p:spPr>
          <a:xfrm>
            <a:off x="324000" y="3068640"/>
            <a:ext cx="5864040" cy="345600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4"/>
          <p:cNvSpPr/>
          <p:nvPr/>
        </p:nvSpPr>
        <p:spPr>
          <a:xfrm>
            <a:off x="1071720" y="1071720"/>
            <a:ext cx="771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батарейках содержится множество различных металлов — ртуть, никель, кадмий, свинец, литий, марганец и цинк, которые имеют свойство накапливаться в живых организмах, в том числе и в организме человека, и наносить существенный вред здоровью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5"/>
          <p:cNvSpPr/>
          <p:nvPr/>
        </p:nvSpPr>
        <p:spPr>
          <a:xfrm>
            <a:off x="6286680" y="3068640"/>
            <a:ext cx="2678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нак изображенный на батарейке означает: 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Не выбрасывать, необходимо сдать в специальный пункт утилиз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ем опасны тяжелые металлы, находящиеся в батарейках?</a:t>
            </a:r>
            <a:r>
              <a:rPr b="0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214280" y="1714320"/>
            <a:ext cx="771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винец.</a:t>
            </a: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Накапливается в основном в почках. Вызывает также заболевания мозга, нервные расстройства. 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дмий.</a:t>
            </a: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Накапливается в печени, почках, костях и щитовидной железе. Является канцерогеном, то есть провоцирует рак. 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туть.</a:t>
            </a: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Влияет на мозг, нервную систему, почки и печень. Вызывает нервные расстройства, ухудшение зрения, слуха, нарушения двигательного аппарата, заболевания дыхательной системы. Наиболее уязвимы дети. Независимо от путей поступления в организм ртуть накапливается в почках.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Рисунок 3" descr="3.bmp"/>
          <p:cNvPicPr/>
          <p:nvPr/>
        </p:nvPicPr>
        <p:blipFill>
          <a:blip r:embed="rId1"/>
          <a:stretch/>
        </p:blipFill>
        <p:spPr>
          <a:xfrm>
            <a:off x="5003640" y="836640"/>
            <a:ext cx="3857760" cy="5857920"/>
          </a:xfrm>
          <a:prstGeom prst="rect">
            <a:avLst/>
          </a:prstGeom>
          <a:ln w="0">
            <a:noFill/>
          </a:ln>
        </p:spPr>
      </p:pic>
      <p:pic>
        <p:nvPicPr>
          <p:cNvPr id="342" name="Содержимое 5" descr="Ежики.jpg"/>
          <p:cNvPicPr/>
          <p:nvPr/>
        </p:nvPicPr>
        <p:blipFill>
          <a:blip r:embed="rId2"/>
          <a:stretch/>
        </p:blipFill>
        <p:spPr>
          <a:xfrm>
            <a:off x="0" y="-227160"/>
            <a:ext cx="4714920" cy="70851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14240" y="-1717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ред батареек для окружающей среды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79995</dc:creator>
  <dc:description/>
  <dc:language>en-US</dc:language>
  <cp:lastModifiedBy>79995678691</cp:lastModifiedBy>
  <dcterms:modified xsi:type="dcterms:W3CDTF">2020-12-27T08:43:37Z</dcterms:modified>
  <cp:revision>14</cp:revision>
  <dc:subject/>
  <dc:title>Слайд 1</dc:title>
</cp:coreProperties>
</file>